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8EBE-639D-4B93-9000-ADF4FC17E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5546-D6B3-42E1-A84A-B2D9187B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43A0-6CBA-4D5B-AFA8-0BE49056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9E30-5B77-4A9D-A401-A40FE265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4A56-380F-4DAE-B52A-84C312DAC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83D8-C358-4841-BA0B-E99152D7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75EA-7B6A-4528-A7D8-75224EA4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675B-73B7-4B0B-B13E-AF7821E9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C7DF-4027-4036-AC3F-203C0093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395C-3EED-4603-9C14-3A769EC5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FA49-3108-478B-9C4D-9353DDA1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9634-1D70-4DE9-A1B1-8F6184ED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EBCD-56C8-41E9-B82A-11025A7A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9994-A8C0-49F1-B69F-F87C587F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7E7C-5448-4152-848D-4ADF8998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F293-171A-44CA-B580-1F9013D7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13C7-0403-486D-8189-6E579DFE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CCFA-5C1D-4ED9-AF0C-DDF62C78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CF10-31A4-4BF9-A2EC-D8A7162C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1650-0EBD-42E9-B11E-2C4DF244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8748-C1B2-4A09-AB09-1F564363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7F90-416A-4569-B42A-6F0C5B1D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56B0-535B-465B-990E-3A3F8AC1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C6D2-338A-4B23-B47A-5F9E6FCD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51A4-A4BB-44DC-8A46-1BE73320F04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E4E5-79C5-43F2-9D48-8BED407DACA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91;&#1090;&#1072;&#1085;&#1090;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836640"/>
            <a:ext cx="82803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eaea"/>
                </a:solidFill>
                <a:latin typeface="Tahoma"/>
              </a:rPr>
              <a:t>Мутация ДНК</a:t>
            </a:r>
            <a:endParaRPr b="1" lang="en-US" sz="7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300360" y="5373720"/>
            <a:ext cx="259236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Подготовила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тудентка 231 группы Гусева Людмил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948360" y="476280"/>
            <a:ext cx="1905120" cy="324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Вывод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99"/>
                </a:solidFill>
                <a:latin typeface="Tahoma"/>
              </a:rPr>
              <a:t>Следите за своим здоровьем!!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124000" y="3068640"/>
            <a:ext cx="5327640" cy="33512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Литература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ru.wikipedia.org/wiki/Мут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99"/>
                </a:solidFill>
                <a:latin typeface="Tahoma"/>
              </a:rPr>
              <a:t>Цель: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знакомиться и понять что такое мутац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99"/>
                </a:solidFill>
                <a:latin typeface="Tahoma"/>
              </a:rPr>
              <a:t>Задачи: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ить понят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утац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ть классификацию мут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вызывает мутацию ДН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ить значение мут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00"/>
                </a:solidFill>
                <a:latin typeface="Tahoma"/>
              </a:rPr>
              <a:t>Задача №1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Мутаци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- стойкое (то есть такое, которое может быть унаследовано потомками данной клетки или организма) изменение генотипа, происходящие под влиянием внешней или внутренней сре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843280" y="4005360"/>
            <a:ext cx="3960720" cy="223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00"/>
                </a:solidFill>
                <a:latin typeface="Tahoma"/>
              </a:rPr>
              <a:t>Задача №2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2560" y="1483920"/>
            <a:ext cx="754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Классификация мутаций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Ге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Хромосом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Tahoma"/>
              </a:rPr>
              <a:t>Геном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Генны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мутаци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ыражаются в изменении структуры отдельных участков ДН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нные мутации встречаются более част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ru-RU" sz="2000" spc="-1" strike="noStrike">
                <a:solidFill>
                  <a:srgbClr val="cc3300"/>
                </a:solidFill>
                <a:latin typeface="Tahoma"/>
              </a:rPr>
              <a:t>хромосомных мутациях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роисходят крупные перестройки структуры отдельных хромосом. В этом случае наблюдается удвоение части (дупликация) генетического материала одной или нескольких хромос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Tahoma"/>
              </a:rPr>
              <a:t>Геномные мутаци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они представлены  более чем 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4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6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аборами хромос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Мутагены</a:t>
            </a:r>
            <a:br>
              <a:rPr sz="2400"/>
            </a:b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Существуют факторы, способные заметно увеличить частоту мутаций — мутагенные факторы. К ним относятся: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ahoma"/>
              </a:rPr>
              <a:t>химические мутаген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— вещества, вызывающие мутаци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ahoma"/>
              </a:rPr>
              <a:t>физические мутаген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— ионизирующие излучения, в том числе естественного радиационного фона, ультрафиолетовое излучение, высокая температура и др.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ahoma"/>
              </a:rPr>
              <a:t>биологические мутаген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— например, ретровирусы, ретротранспозон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Задача №3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абачный ды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нно- модифицированная е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ирус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нешняя сре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915080" y="620640"/>
            <a:ext cx="3695400" cy="2664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03640" y="3357720"/>
            <a:ext cx="3529080" cy="2695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292720" y="6021360"/>
            <a:ext cx="31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Хот-доги вызывают генетические мут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00"/>
                </a:solidFill>
                <a:latin typeface="Tahoma"/>
              </a:rPr>
              <a:t>Задача №4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2924280"/>
            <a:ext cx="754380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скорение селек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стественный отбо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155736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Значение мутаций для эволюции, селекции и медици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Хромосомные и генные мутации оказывают разнообразные воздействия на организ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340000" y="4149720"/>
            <a:ext cx="4392720" cy="20876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Положительных сторон у мутации ДНК не так много как отрицательных!</a:t>
            </a: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индром Дау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ковые опуха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утации приводят к летальному исход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771640" y="3429000"/>
            <a:ext cx="3816360" cy="3079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4:59:45Z</dcterms:created>
  <dc:creator>www.PHILka.RU</dc:creator>
  <dc:description/>
  <dc:language>en-US</dc:language>
  <cp:lastModifiedBy>www.PHILka.RU</cp:lastModifiedBy>
  <dcterms:modified xsi:type="dcterms:W3CDTF">2009-12-21T20:33:11Z</dcterms:modified>
  <cp:revision>14</cp:revision>
  <dc:subject/>
  <dc:title>Мутация ДНК</dc:title>
</cp:coreProperties>
</file>